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9633-104F-4F1B-9665-22C4029B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14C-43D6-40B0-AC14-D964CB89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545-48FA-4BCB-B9A6-AFC01176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F37-D632-4592-A902-A7B459FE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809A-09A4-4000-873B-1193865F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FE57-D2CF-4B93-9676-661BE275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96F9-6750-4E63-B0C3-D32E9F91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5F05-F7D5-41EB-A83D-C3DF5EE0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61A2-4BBD-4DCF-9FE7-8ED167DD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2191-8A04-48F9-85C9-EB5C9329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1F8F-7702-4238-A044-0E9DB787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4F7-04E5-4DA5-A147-300C3155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219E-0977-454D-BDAE-43A8386B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F659-DDA8-4195-81E6-02ADD679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1768-B6CD-4098-AED5-0F38A01D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9FD9-9FF7-4B8D-95AA-6F7CA78D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7DC8-95BB-4818-98E3-54747DEF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0EC4A-C76B-4F81-B65F-DFAE27BD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9B83-282C-4EFE-811F-6E2F3B9D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B1BB2-BE63-47D2-9A6C-FB91AFAA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C3BC2-09F2-47D7-A1AA-A4FB89E9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47867-BC5B-42CB-B9A7-883A900B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A2C-6726-48E1-8BCB-D3D9D281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D1FAA-13F9-4400-9B85-AF3DA85E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B533E-6DD3-4C19-BA7C-7D7D6547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984BC-34F9-4F1D-8871-E71DB74E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02510-1B64-416F-8AD0-54B732AD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9F79-DC13-4790-802E-94068489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6ADFD-E1CE-42A0-AAC7-8B9F6C41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EEAD-F20D-462E-8372-BCB2956E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622F-169F-450B-8C73-F0E0A63D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0CF31-A0DD-46CD-A536-B8DD78CD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066E7-87CD-469D-BDA9-4DEE7D0B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F17-A9E2-4834-9CB6-AD941A24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292F7-06CE-43F7-8B63-F3FC3A09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5F62A-397B-40DE-8C5F-58E92631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EE56E-238F-4B8E-8517-D48C45FE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59323-9454-4C5F-BB25-2EAC2E29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60610-60AB-4C29-A79B-5EA298E4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F2F46-26E4-4382-AD88-77349034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72A76-2FBB-4CCA-8E5B-92587788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D5B13-5FAE-45A8-B6B8-67417A8B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3A4D7-6ACA-4C9D-865F-8709C07D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106EE-F38C-4CD4-BD1E-DD1A6D08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846-1DCA-4925-AA25-DD62EB5B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9B3E7-54D4-42EE-86CA-C2B76EF1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30C18-2484-4CF6-8063-09A18B9C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3CF1E-64D7-4E94-964E-11B16072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05662-3214-45DC-A7C9-42359E38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D52D6-AB14-4892-8E62-59A44A05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C5331-F136-4BDC-959E-5CE2D679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37494-7947-43AE-8CC7-6FEF10F2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792C2-85AE-4BC1-996A-F7CA1B8E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3217B-797C-464F-8700-9ADE39C8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30B61-8D04-4CD5-9B1B-6C6BBF9E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62A-446F-45D9-9F35-F6BDF63E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FA4F7-641A-4F68-8D4D-BDA8FFF6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D4D-6A51-49EF-9D3A-D29CCCA8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FBF-9C54-48E1-8CD4-13AFED39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F88-00C6-49DA-BBC0-D134E1A1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1B12-D46C-4A00-A7B3-82738926515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2D73-FDA4-4024-ADCF-2D7235D09775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9301-0FAC-4F4C-A797-E2D3787059B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BEB1-69F1-46AD-AB13-C32071D1A221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76E5-7C3E-4893-A68F-C781685C722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29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Introduction to Game Desig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29240" cy="28782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onclus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-24444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609480" y="16765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NGR-TS-3: The students will develop an understanding of how humans interact wi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) Operate technological syste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) Design technological syste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at is a conditional stat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ditional State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riab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tens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f, Then, Else statements will provide a foundation for efficient planning and desig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f, Then statements will provide a foundation for efficient planning and desig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c6c6c"/>
                </a:solidFill>
                <a:latin typeface="Trebuchet MS"/>
              </a:rPr>
              <a:t>If x=3, then x+4=7 or if salt is added to water, then the salt will dissolve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c6c6c"/>
                </a:solidFill>
                <a:latin typeface="Trebuchet MS"/>
              </a:rPr>
              <a:t>If the alarm goes of at six, then I get out of bed.</a:t>
            </a:r>
            <a:endParaRPr b="0" lang="en-US" sz="25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c6c6c"/>
                </a:solidFill>
                <a:latin typeface="Trebuchet MS"/>
              </a:rPr>
              <a:t>If mom makes breakfast, then I sit down and eat it.</a:t>
            </a:r>
            <a:endParaRPr b="0" lang="en-US" sz="25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c6c6c"/>
                </a:solidFill>
                <a:latin typeface="Trebuchet MS"/>
              </a:rPr>
              <a:t>If I miss the bus, then I must walk to school.</a:t>
            </a:r>
            <a:endParaRPr b="0" lang="en-US" sz="25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1486080" y="6488280"/>
            <a:ext cx="46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X = 3, alarm goes of at six, etc,is a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f, Then, Else statements will provide a foundation for efficient planning and desig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If the alarm goes of at six, then I get out of bed, else I stay in bed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If mom makes breakfast, then I sit down and eat it, else I starve until lunch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If I miss the bus, then I must walk to school, else I get to ride the bus to school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1006200" y="6172200"/>
            <a:ext cx="62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**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s an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alternate to the condition, not just an oppo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at is a conditional stat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14:54:03Z</dcterms:created>
  <dc:creator>user</dc:creator>
  <dc:description/>
  <dc:language>en-US</dc:language>
  <cp:lastModifiedBy>GSCS</cp:lastModifiedBy>
  <dcterms:modified xsi:type="dcterms:W3CDTF">2012-05-10T14:31:29Z</dcterms:modified>
  <cp:revision>5</cp:revision>
  <dc:subject/>
  <dc:title>Conditional Statements</dc:title>
</cp:coreProperties>
</file>